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6B38-DECC-43DA-978C-5F9531D6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DE24-6FDB-4634-B8DE-330DBEB5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45AC-36E5-494F-8EB6-45B1A4FF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21C-6DFE-47B8-9FC3-1BAC7821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807F-7713-42FA-8CC2-EF4CF0FE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C0E7-8CA4-455F-A457-04FCAB71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E285-C141-41ED-B9C3-0C1C69A3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2CC7-DCBD-42C3-8416-7CF58D54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EC56-04F7-407A-8DAF-31333312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9CC0-F6C4-4F88-9D3A-ACE3C15E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CF81-BEFA-4BCD-8D6B-8074C0E1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5D52-231C-4DBE-8395-0E8F9A64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ABD0-6561-4974-8DC5-4A61563D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9904-EE7D-4E73-9FB4-CD4406CA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6E30-C4A2-4171-B9BB-6A66D10E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98C3-F949-48CF-BEC1-4C0437E1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7E55-0976-49DB-BA12-05BB0738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BF7-351D-4A2E-BD2F-97342951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AFF7-4C0D-4C35-A38B-02E2FAF6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FE49-609B-48BA-B844-E0A5EAD3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007-9721-4550-BE2C-DF09248F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4958-0E2D-46D6-8759-64C2623D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CD50-0838-4EC9-A7D1-AC365830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6B5-768D-4F02-B39D-6A69B280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EB6C-296F-40E8-840F-443AD221BE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F063-B8BD-4010-8A3E-1BB0FD46D5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АМИКА ТРОШКОВ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422280" y="1841400"/>
            <a:ext cx="818820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Трошкови представљају 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новчано изражене утрошке</a:t>
            </a: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 рада и средст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ласификација трошк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стоји већи број класификација у зависности од критерију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енски апс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гућност контр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Динамика трошк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еакција трошкова на промену обима активности (производња или пружање услуг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ма овом критеријума трошкови се деле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Фиксн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аријабилн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елативно-фикс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ошк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куп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Јединич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трошк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Фиксни трошк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е мењају се када се мења обим активности. Имају карактер константности без обзира на обим актив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ме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фиксних трошк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амортизациј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закуп прост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осигурањ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администрације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Фиксни трошк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е мењају се када се мења обим активности. Имају карактер константности без обзира на обим актив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ме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фиксних трошк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амортизациј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закуп прост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осигурањ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администрације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66" name="Picture 41" descr=""/>
          <p:cNvPicPr/>
          <p:nvPr/>
        </p:nvPicPr>
        <p:blipFill>
          <a:blip r:embed="rId1"/>
          <a:stretch/>
        </p:blipFill>
        <p:spPr>
          <a:xfrm>
            <a:off x="422280" y="1841400"/>
            <a:ext cx="788364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Варијабилни трошк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ењају се са променом обима активности. Директно су пропорционални обиму актив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ме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аријабилних трошк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материј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помоћног материј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енергиј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средстава за рад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55480" y="1841400"/>
            <a:ext cx="814248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к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Релативно фиксни трошк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мају карактер константности до одређеног обима активности, након чега се мењај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ме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елативно фиксних трошк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материјала за припрему активн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рада за припрему активн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шкови специјалних ал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29T23:35:28Z</dcterms:modified>
  <cp:revision>165</cp:revision>
  <dc:subject/>
  <dc:title>Soft and Hard Skills Development: A Current Situation in Serbian Companies</dc:title>
</cp:coreProperties>
</file>